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DF6-9F1B-4A34-B662-61655859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633-EC68-48BC-AD3A-25AE9676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411-7033-4747-A29B-804CFCA6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E19A-C42A-4225-9B1D-8BD49709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66BF-3E29-4D00-9229-F39540B65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ECBF-93B0-4FF9-9FEC-2F8BBFD8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DC1E-CA5F-4434-898A-F88D291D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FF37-57BB-41FD-82A3-616C215D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C3AB-7075-4B28-9B6B-3DA1BE16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326B-DCB0-410E-94F5-467372C4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4027-0CC5-4CD6-BDA9-E6598A06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6E6-C12F-4CEA-82E6-156A51F1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E9E5-A7EC-448B-9EF7-6F73766D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011B-6827-47B3-8AA1-ED63636E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DBAC-8054-49B8-8990-ECB6D9A2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3B2F-167A-4339-A655-75FB71A4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EEA3C-FF3E-4BA2-BFE6-1B7B842A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D58-9B52-433F-8C88-36A0FE3F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199-9424-4ADC-ABA8-99700FF5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D148-71F9-4225-8053-AA47DEA0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489-D4CD-49F8-A255-5D69D684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8981-4920-4820-96DF-80F48B19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3DA-CF44-4609-9F58-CF9599A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311-724E-46F5-AA70-A6C4320D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E3AC-6260-4671-9DA5-34C869948AD4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A7C5-1AAE-444D-8B77-696992E4CB15}" type="slidenum">
              <a:rPr b="0" lang="en-U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0/310/1420310/f_5710274.jpg" TargetMode="External"/><Relationship Id="rId2" Type="http://schemas.openxmlformats.org/officeDocument/2006/relationships/hyperlink" Target="http://www.demoscope.ru/weekly/2002/085/img/litta.jpg" TargetMode="External"/><Relationship Id="rId3" Type="http://schemas.openxmlformats.org/officeDocument/2006/relationships/hyperlink" Target="http://cravingideas.blogs.com/photos/uncategorized/mona_lisa_1.jpg" TargetMode="External"/><Relationship Id="rId4" Type="http://schemas.openxmlformats.org/officeDocument/2006/relationships/hyperlink" Target="http://www.abc-people.com/data/leonardov/vecherya1.jpg" TargetMode="External"/><Relationship Id="rId5" Type="http://schemas.openxmlformats.org/officeDocument/2006/relationships/hyperlink" Target="http://waking-up.org/wp-content/uploads/2011/06/Michelangelo_portrait.jpg" TargetMode="External"/><Relationship Id="rId6" Type="http://schemas.openxmlformats.org/officeDocument/2006/relationships/hyperlink" Target="http://3-21vzlet.ru/wp-content/uploads/2011/08/david.jpg" TargetMode="External"/><Relationship Id="rId7" Type="http://schemas.openxmlformats.org/officeDocument/2006/relationships/hyperlink" Target="http://www.centre.smr.ru/images/pics/pic0116/pic0116_1024.jpg" TargetMode="External"/><Relationship Id="rId8" Type="http://schemas.openxmlformats.org/officeDocument/2006/relationships/hyperlink" Target="http://www.histoiredelart.net/artistes/XVI/tableaux_raphael/Raphael-Autoportrait-1506.jpg" TargetMode="External"/><Relationship Id="rId9" Type="http://schemas.openxmlformats.org/officeDocument/2006/relationships/hyperlink" Target="http://www.legacyofthecauldron.com/Raphael_ConestabileSQ.jpg" TargetMode="External"/><Relationship Id="rId10" Type="http://schemas.openxmlformats.org/officeDocument/2006/relationships/hyperlink" Target="http://img0.liveinternet.ru/images/attach/c/3/83/293/83293330_Rafael_017__Sikstinskaya_madonna.jpg" TargetMode="External"/><Relationship Id="rId11" Type="http://schemas.openxmlformats.org/officeDocument/2006/relationships/hyperlink" Target="http://www.usc.edu/schools/annenberg/asc/projects/comm544/library/images/008.jpg" TargetMode="External"/><Relationship Id="rId12" Type="http://schemas.openxmlformats.org/officeDocument/2006/relationships/hyperlink" Target="http://www.ibiblio.org/wm/paint/auth/bruegel/dance.jpg" TargetMode="External"/><Relationship Id="rId13" Type="http://schemas.openxmlformats.org/officeDocument/2006/relationships/hyperlink" Target="http://de.academic.ru/pictures/dewiki/80/Pieter_Bruegel_the_Elder-_The_Corn_Harvest_(August).JPG" TargetMode="External"/><Relationship Id="rId14" Type="http://schemas.openxmlformats.org/officeDocument/2006/relationships/hyperlink" Target="http://www.math.nus.edu.sg/~matmcinn/picture/Brueghel_the_elder_-_Hunters_in_the_snow.jpg" TargetMode="External"/><Relationship Id="rId15" Type="http://schemas.openxmlformats.org/officeDocument/2006/relationships/hyperlink" Target="http://img-fotki.yandex.ru/get/4711/53496785.93/0_78eee_36d30baa_XL" TargetMode="External"/><Relationship Id="rId16" Type="http://schemas.openxmlformats.org/officeDocument/2006/relationships/hyperlink" Target="http://www.artholland.ru/art/r/rembrand/img/94.jpg" TargetMode="External"/><Relationship Id="rId17" Type="http://schemas.openxmlformats.org/officeDocument/2006/relationships/hyperlink" Target="http://blog.artnn.ru/images_2006/vozvraschenie_bludnogo_syna_rembrandt_1669.jpg" TargetMode="External"/><Relationship Id="rId18" Type="http://schemas.openxmlformats.org/officeDocument/2006/relationships/hyperlink" Target="http://www.bibliotekar.ru/Kdurer/index.files/image001.jpg" TargetMode="External"/><Relationship Id="rId19" Type="http://schemas.openxmlformats.org/officeDocument/2006/relationships/hyperlink" Target="http://www.zavtra.ru/cgi/veil/data/zavtra/11/906/81.jpg" TargetMode="External"/><Relationship Id="rId20" Type="http://schemas.openxmlformats.org/officeDocument/2006/relationships/hyperlink" Target="http://www.lib.unc.edu/coursepages/reli/images/Durer_Erasmus.jpg" TargetMode="External"/><Relationship Id="rId21" Type="http://schemas.openxmlformats.org/officeDocument/2006/relationships/hyperlink" Target="http://s05.radikal.ru/i178/0908/02/4c6013b5b4b3.jpg" TargetMode="External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457200"/>
            <a:ext cx="72388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66"/>
                </a:solidFill>
                <a:latin typeface="Book Antiqua"/>
              </a:rPr>
              <a:t>Мир художественной культуры                                   Эпохи Возрождения</a:t>
            </a:r>
            <a:r>
              <a:rPr b="1" lang="en-US" sz="60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6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4495680"/>
            <a:ext cx="2448000" cy="1836720"/>
          </a:xfrm>
          <a:prstGeom prst="rect">
            <a:avLst/>
          </a:prstGeom>
          <a:ln w="9360">
            <a:solidFill>
              <a:srgbClr val="3366cc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809880"/>
            <a:ext cx="6507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Учитель истории и обществознания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анюшин Михаил Евгеньевич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БОУ Ичалковская СОШ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Перевозский райо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Нижегородская область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афаэль Сан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83-152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3889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685800"/>
            <a:ext cx="5437080" cy="5486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5228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 Конестабиле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768840" y="228600"/>
            <a:ext cx="5062320" cy="6400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133720"/>
            <a:ext cx="32004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икстинская мадон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Картинная галерея, Дрезде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итер Брейгель Старший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          (1525/1530-15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32280" y="1523880"/>
            <a:ext cx="40035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592280"/>
            <a:ext cx="7238880" cy="505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Крестьянский танец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7172280" cy="4924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Жатв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Метрополитен, Нью-Йорк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7219800" cy="50691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Охотники на снегу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истории искусства, Вен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Рембрандт Харменс ван Рейн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  (1606-166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24360" y="1523880"/>
            <a:ext cx="4147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86200" y="304920"/>
            <a:ext cx="4921200" cy="6286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205740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ортрет старика в красном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304920"/>
            <a:ext cx="5127840" cy="6315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04920" y="2133720"/>
            <a:ext cx="32004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Возвращение блудного сын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Леонардо да Винчи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52-1519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754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Альбрехт Дюрер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471-1528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11560" y="1219320"/>
            <a:ext cx="39290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267080" y="380880"/>
            <a:ext cx="446112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2133720"/>
            <a:ext cx="39625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Четыре апокалиптических всадник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 из серии «Апокалипсис»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091040" y="304920"/>
            <a:ext cx="4825800" cy="6248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52280" y="2209680"/>
            <a:ext cx="3962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Эразм Роттердамский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Гравюра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676520" y="380880"/>
            <a:ext cx="7238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Ганс Гольбейн Младший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(1497-1543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79640" y="1143000"/>
            <a:ext cx="4005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946680" y="304920"/>
            <a:ext cx="5005080" cy="6248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205740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Уильяма Уорхэма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86200" y="228600"/>
            <a:ext cx="4889520" cy="6410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28600" y="2209680"/>
            <a:ext cx="3429000" cy="30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Портрет члена семьи Ведигов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Музей Метрополитен,   Нью-Йорк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676520" y="38088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иего Веласкес</a:t>
            </a:r>
            <a:r>
              <a:rPr b="1" lang="en-US" sz="2800" spc="-1" strike="noStrike">
                <a:solidFill>
                  <a:srgbClr val="336666"/>
                </a:solidFill>
                <a:latin typeface="Book Antiqua"/>
              </a:rPr>
              <a:t> (1599-1660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124080" y="1219320"/>
            <a:ext cx="43293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5240" y="304920"/>
            <a:ext cx="5819760" cy="6248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52280" y="2362320"/>
            <a:ext cx="2895840" cy="20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Завтрак  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447920" y="1654200"/>
            <a:ext cx="7543800" cy="490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Пряхи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Музей Прадо, Мадрид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1. Рембрандт и Рафаэль были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путешественниками, открывшими новые земли                                                                         2) художниками эпохи Возрождения                  3) учёными и философами                                   4) драматургам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380988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2. Создатель статуи «Давид»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2) Микеланджело Буонарроти                                 3) Альбрехт Дюрер                                                    4) Томас Мор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0574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8006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4940280" cy="6350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28600" y="2133720"/>
            <a:ext cx="36576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адонна Литта  (Мадонна с младенцем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Эрмитаж, Санкт-Петербург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447920" y="685800"/>
            <a:ext cx="7467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А3. Картину «Возвращение блудного сына» написал художник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1) Леонардо да Винчи                                                                         2) Альбрехт Дюрер                                                 3) Рафаэль Санти                                                    4) Рембрандт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657600"/>
            <a:ext cx="75438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4. Изображение сюжетов из жизни простых крестьян и горожан характеризует искусств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ьянского Возрождения                                                2) Северного Возрождения                                    3) готическое                                                             4) античное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743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502920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6858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5. Ранее всего эпоха Возрождения началась в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талии                                                                         2) Испании                                                                   3) Германии                                                                 4) Голландии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200400"/>
            <a:ext cx="7543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А6. Отличительной чертой искусства эпохи Возрождения было: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1) использование цветомузыки                                                2) использование библейских сюжетов                                    3) использование достижений античной культуры                                                                   4) отсутствие портретного сходства в изображении людей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29528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876920"/>
            <a:ext cx="990720" cy="304560"/>
          </a:xfrm>
          <a:custGeom>
            <a:avLst/>
            <a:gdLst>
              <a:gd name="textAreaLeft" fmla="*/ 154800 w 990720"/>
              <a:gd name="textAreaRight" fmla="*/ 866880 w 9907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5228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В1. Установите соответствие между автором и произведением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5800" y="1397160"/>
          <a:ext cx="8077320" cy="345600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изведение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) Леонардо да Винчи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«Портрет старика в красном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Питер Брейгель Старший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«Четыре всадника Апокалипсиса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Альбрехт Дюрер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«Тайная вечеря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«Крестьянский танец»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209680" y="5257800"/>
          <a:ext cx="6096240" cy="1270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endParaRPr b="0" lang="en-US" sz="24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520" y="5334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Arial"/>
              </a:rPr>
              <a:t>Ответ: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1629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5943600"/>
            <a:ext cx="2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105520" y="5943600"/>
            <a:ext cx="25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cc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cc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533520"/>
            <a:ext cx="7162920" cy="51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Литератур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Юдовская А.Я., Баранов П.А., Ванюшкина Л.М. Новая история, 1500-1800, 7 класс. М.: «Просвещение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оловьёв К.А. Универсальные поурочные разработки по Новой истории, 1500-1800гг., 7 класс. М.: «Вако», 2009г.;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Волкова К.В. Контрольно-измерительные материалы. История Нового времени: 7 класс. М.: «Вако», 2011г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52280"/>
            <a:ext cx="8381880" cy="68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Интернет ресурсы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"/>
              </a:rPr>
              <a:t>http://img1.liveinternet.ru/images/foto/b/0/310/1420310/f_571027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"/>
              </a:rPr>
              <a:t>http://www.demoscope.ru/weekly/2002/085/img/litt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адонна Литт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3"/>
              </a:rPr>
              <a:t>http://cravingideas.blogs.com/photos/uncategorized/mona_lisa_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Мона Лиз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4"/>
              </a:rPr>
              <a:t>http://www.abc-people.com/data/leonardov/vecherya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Леонардо да Винчи – Тайная вечеря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5"/>
              </a:rPr>
              <a:t>http://waking-up.org/wp-content/uploads/2011/06/Michelangelo_portrait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6"/>
              </a:rPr>
              <a:t>http://3-21vzlet.ru/wp-content/uploads/2011/08/david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Давид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7"/>
              </a:rPr>
              <a:t>http://www.centre.smr.ru/images/pics/pic0116/pic0116_102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Микеланджело - Сотворение Ада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8"/>
              </a:rPr>
              <a:t>http://www.histoiredelart.net/artistes/XVI/tableaux_raphael/Raphael-Autoportrait-1506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9"/>
              </a:rPr>
              <a:t>http://www.legacyofthecauldron.com/Raphael_ConestabileSQ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Мадонна Конестабиле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0"/>
              </a:rPr>
              <a:t>http://img0.liveinternet.ru/images/attach/c/3/83/293/83293330_Rafael_017__Sikstinskaya_madonna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афаэль - Сикстинская мадон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 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1"/>
              </a:rPr>
              <a:t>http://www.usc.edu/schools/annenberg/asc/projects/comm544/library/images/008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</a:t>
            </a: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2"/>
              </a:rPr>
              <a:t>http://www.ibiblio.org/wm/paint/auth/bruegel/dance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Крестьянский танец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3"/>
              </a:rPr>
              <a:t>http://de.academic.ru/pictures/dewiki/80/Pieter_Bruegel_the_Elder-_The_Corn_Harvest_(August)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– Питер Брейгель Старший – Жатв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4"/>
              </a:rPr>
              <a:t>http://www.math.nus.edu.sg/~matmcinn/picture/Brueghel_the_elder_-_Hunters_in_the_snow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Питер Брейгель Старший – Охотники на снегу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5"/>
              </a:rPr>
              <a:t>http://img-fotki.yandex.ru/get/4711/53496785.93/0_78eee_36d30baa_XL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6"/>
              </a:rPr>
              <a:t>http://www.artholland.ru/art/r/rembrand/img/94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Портрет старика в красном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7"/>
              </a:rPr>
              <a:t>http://blog.artnn.ru/images_2006/vozvraschenie_bludnogo_syna_rembrandt_1669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Рембрандт - Возвращение блудного сын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8"/>
              </a:rPr>
              <a:t>http://www.bibliotekar.ru/Kdurer/index.files/image00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Автопортрет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19"/>
              </a:rPr>
              <a:t>http://www.zavtra.ru/cgi/veil/data/zavtra/11/906/81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Четыре апокалиптических всадник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0"/>
              </a:rPr>
              <a:t>http://www.lib.unc.edu/coursepages/reli/images/Durer_Erasmus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Альбрехт Дюрер - Эразм Роттердамск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 u="sng">
                <a:solidFill>
                  <a:srgbClr val="006666"/>
                </a:solidFill>
                <a:uFillTx/>
                <a:latin typeface="Book Antiqua"/>
                <a:hlinkClick r:id="rId21"/>
              </a:rPr>
              <a:t>http://s05.radikal.ru/i178/0908/02/4c6013b5b4b3.jpg</a:t>
            </a: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 - Ганс Гольбейн Младший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1/53/851/53851773_3warham.jpg - Ганс Гольбейн Младший – Портрет Уильяма Уорхэма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wga.hu/art/h/holbein/hans_y/1535/1wedigh.jpg - Ганс Гольбейн - Портрет члена семьи Ведигов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img0.liveinternet.ru/images/attach/c/4/79/902/79902068_SelfPortrait_1643.jpg - Диего Веласкес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art-pics.ru/pics/1636/%C4%E8%E5%E3%EE%20%C2%E5%EB%E0%F1%EA%E5%F1-%C7%E0%E2%F2%F0%E0%EA.jpg – Диего Веласкес – Завтрак;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336666"/>
              </a:buClr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00" spc="-1" strike="noStrike">
                <a:solidFill>
                  <a:srgbClr val="336666"/>
                </a:solidFill>
                <a:latin typeface="Book Antiqua"/>
              </a:rPr>
              <a:t>http://www.varvar.ru/arhiv/gallery/baroque/velazquez/images/velazquez20.jpg - Диего Веласкес - Пряхи.</a:t>
            </a:r>
            <a:endParaRPr b="0" lang="en-US" sz="9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62520" y="304920"/>
            <a:ext cx="4865400" cy="6352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8600" y="2209680"/>
            <a:ext cx="3657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она Лиза  (Джоконда)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Лувр, Париж</a:t>
            </a: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1704960"/>
            <a:ext cx="8686800" cy="4722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3880" y="152280"/>
            <a:ext cx="7162920" cy="18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Тайная вечеря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Book Antiqua"/>
              </a:rPr>
              <a:t>Санта-Мария делле Грацие, Милан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746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66"/>
                </a:solidFill>
                <a:latin typeface="Book Antiqua"/>
              </a:rPr>
              <a:t>Микеланджело Буонарроти</a:t>
            </a:r>
            <a:r>
              <a:rPr b="1" lang="ru-RU" sz="2800" spc="-1" strike="noStrike">
                <a:solidFill>
                  <a:srgbClr val="336666"/>
                </a:solidFill>
                <a:latin typeface="Book Antiqua"/>
              </a:rPr>
              <a:t>         (1475-1564)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200400" y="1523880"/>
            <a:ext cx="38941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6524640" cy="541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2362320"/>
            <a:ext cx="2286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Давид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Академия, Флоренция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8763120" cy="4141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523880" y="152280"/>
            <a:ext cx="71629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отворение Адама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66"/>
                </a:solidFill>
                <a:latin typeface="Book Antiqua"/>
              </a:rPr>
              <a:t>Фрагмент росписи свода Сикстинской капеллы, Ватикан</a:t>
            </a: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52480" y="380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Стихотворение из Цикла сонетов   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2057400"/>
            <a:ext cx="79246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Кто создал всё, кто сотворил и части –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И после выбрал лучшую из н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Чтоб здесь явить нам чудо дел своих,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Book Antiqua"/>
              </a:rPr>
              <a:t>Достойное его высокой власти…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10-26T08:58:27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